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92B-6766-4DC1-933E-E23D6077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358-1335-4F2E-BA39-A553072E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2D850-5069-4BEA-ABCC-64FBC7FB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1C448-02D6-4A3D-AB49-AA498958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A0CB9-96AC-4898-B19C-50D3B45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6600-DBCA-45D2-BA0B-91DA63FF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1D7FB-DC92-4A51-B496-F62F90B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B7A5B-30A3-4C9C-9A1D-BDD332DD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AD00B-78E1-4110-A501-D3674654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7D25F-9B84-4F30-AF47-A0DEB0B4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5D478-A04D-4A00-8DFC-3A2BEE3E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90CE3-48AB-4792-8728-B278D0AD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2A6-7AC5-4AE5-832B-19E6CA46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B48F-2E65-4A84-9F72-2664B641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6FE73-F1CA-4B11-9196-FC13AE8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50F33-E794-42A9-8A02-901CD083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149FE-F308-43A6-9A58-AEC3BCA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6C204-2821-458A-8E12-B42CA526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CB5EE-8B6D-4000-99B5-15E7A90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EDB1E-0F4F-4437-857D-BF2198F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A9F8D-C047-4401-9640-CAA3E63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3E23A-BA0F-4A2D-B979-404FB882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DEE52-B1D8-49D7-B8B7-A7FC2338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B43-35DF-4EEC-8CA6-3AE304EC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CB8D6-7D97-43D4-97D7-941500B9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F63AB-31EE-4866-957F-6273E65F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4BF9-661C-406A-BA2B-B928F31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FCBAF-5951-4947-8455-679E4E4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53658-4AEB-4781-AEC7-B27CBC7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D7B6E-C779-41B1-9571-4DFECB2A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9BE3B-14A5-4F59-8DF8-C779E0CB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6E98A-6A29-4094-8895-4B5787B3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024F6-2ACA-4DCA-9351-791E0C5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61719-4E87-4CE2-B845-3E52416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C941-9D4B-42BC-B3AE-55B8B774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1308C-AD19-4EF0-BFC1-92E8522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09B9B-FDFA-4BCC-8EA7-96DC1795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4AA8D-59FC-4E39-A0CF-D63465AD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F1F9D-33B5-4BDA-A07A-F66429D7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501C6-5D7A-4F04-B60D-F472DEBD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03716-DA60-40F4-8BA8-5B0F9665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FBE6-955F-4CFA-BAA0-2A9E31BF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EE1C1-6A4C-4138-A629-216916F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7A1B4-FEC6-4D46-BDB0-B9B71EDF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03035-0B75-4158-A34E-64932384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C0A-1552-42A8-B43F-C42FA414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79D6F-5014-4CE5-A228-0CAA31A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7A3A9-558D-4C8A-8808-6108061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FCCC7-3B78-4AEE-955A-0F7EC4F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7EDBD-D7DE-4E58-914C-13C9C539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29DC-F66E-49DF-B459-F7A1BBE3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46EF1-705F-4A3E-87FF-196FB626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A83F8-D2C7-4582-8459-926F0FC5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35BCD-EFCE-493F-BDA9-80427AE7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5551B-9DEE-4399-A861-65265947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01EC2-E9CB-44E3-AF74-D44A87C3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1EF9-6C5C-400E-A602-216E811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7CB87-BC41-4C83-9408-127BDAC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22388-2520-4AD8-AB35-1DE9FA3E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CDE56-3480-46CA-B031-35A761C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112F9-8F22-45BD-A7C3-C3FE642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2E28E-6944-4736-80E8-6F9471C6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A774A-1DC3-4822-81A7-70337FDF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C07BF-C371-481E-A6C7-7C4AC700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45AD4-109D-4B3D-BBFE-6E765243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420BE-1899-41D1-8C85-8437C6AF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77C91-4FFE-48C2-B795-CF5D8580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C7E-3BD4-41C8-A1C6-64FC8D6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A88EA-609B-4BD4-B147-C8FD2AF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AC239-502A-440F-9673-91A396EA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82828-DAFB-4F6F-B268-39996A10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2326C-7B81-4F97-AFF7-1663BBD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9DBFB-8E43-4036-948B-B08EA61B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0E081-BB22-4D80-AEF4-1C8E7C3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67DFF-3C57-41C8-A91C-C66793F2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63E39-C0E8-4197-A90F-8AD7E735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E119A-FA22-4E43-B189-83BCCDE6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37F86-8706-491E-AB53-586FE090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3D49-9737-467B-9BC6-DC14677E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B47B3-72C8-43EA-8169-8D83ADC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E9FFD-AED8-4FDC-ADD0-5ECF69A7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0EAF2-6AFF-4820-ACD7-0F4683A2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80B34-44DE-4B98-9CB9-3FBBDEC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682D5-4BE8-4F40-8582-A4E4D2AA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29B56-DB3A-4C7A-AA49-81E731F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40937-CDBE-4A9A-8DE9-2DD2F0E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CB18A-76C2-4C34-876C-E670A14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8594B-7453-4FDC-BDCF-70441C80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D1284-FBA3-408A-8707-542260BE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E420-7689-485F-9BFA-3DCA370B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E7CF5-5849-4ED8-A6A7-082AAEEA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E5C5C-F1AA-4667-9790-1BF8135B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92FBF-B5E9-43B6-BAC4-FE2D1E8A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4FAA7-0CCF-43DA-B4F8-895A24B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8520D-A6B7-47CE-A30C-0BE3A9BA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A435C-C992-4E41-8F9F-7F3F34F6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B330E-4811-4D36-822A-8D01293B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A2549-A735-4D84-830E-E4E84D8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4A14D-A03A-4121-A1A0-D9D8333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28305-F791-4876-AF58-0F901A8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9661-99EA-4A5F-A444-22878D82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99B2F-63CB-4EC0-BB04-5B02CC2F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B110C-C9E6-45BA-B43B-9C9327B5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A8B82-E3CC-409C-A9F9-BCF4516D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5F5-1B20-4948-B0E7-1284E7DE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9377-8392-4C16-BA21-4016DD8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4266-D536-40DC-B3BD-3AB0442D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B785-96F2-48AA-ADCB-1F89CF52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70E4-2DFF-4EBD-B01D-9CEEEEAE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109B-FC5A-43F6-90DE-596336C2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7211-F42F-4A27-A159-CEF695FC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1959-7464-4027-9692-4249E22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F044C-11E1-44B2-A5A4-568D188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B61F-D2FC-4171-AB63-29A29DB4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D435-E522-4170-A400-152650A9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1C9-1EB2-472C-9EDA-A299DEA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BB61-BA2A-4078-BAE7-65CE77B7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666F-139C-4009-868E-47E0161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D34E-EF9E-40CE-8590-9461098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9183-A34F-45CF-86C6-CF79CA13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BAF3-DACA-4932-89EB-E458221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B10A-4C75-4238-AF7E-8A573051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F511-A899-4BCE-B862-7FC921B4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D2D7-2E6A-4C77-AA98-26A64603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2D2B1-4711-45F1-967E-79F41E4B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640FB-C410-4C86-8910-C760834F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12E-DC3B-4931-9D3B-E4969663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1FD4-AD77-4939-9C8F-70D2BC28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EB45-C878-4C13-BD3A-4BE4779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F01D-A50C-4BE0-9D91-1191B171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C26F-766C-4C75-8A6C-5DC433A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A517-7023-411D-915C-15096B1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815A-97D8-4DE3-8E0C-EFD2263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4195-03D2-4721-8A39-E16A5C6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83DB-F76D-4CF0-BFF6-072B2733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F8C6A-0F9F-40DC-BA08-4B092911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9DA2-99D7-4776-AE3F-9C5CCD9C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B2F-5408-4319-8759-C0901E7D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60B5-CB0F-4A84-8FF3-51CF218E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FDAA1-4D03-47AC-AC8B-1FFC9C34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22E0-4903-48E7-A84B-5BCE743E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B09A-3C37-440B-BFD0-693BDE10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5BD9-1980-4660-A5BB-3F96E5A2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626B-081D-417E-AFFF-E78BE58A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F492-35A0-4536-B4D0-AB952112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FF3F-60E4-4846-80C4-07B14B2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D07E-016C-4A70-8057-32A03974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0804-E747-41C1-886A-50946E8B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FD7-CA60-4F1B-A2E4-78C1257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AA3A-1964-4460-8894-4EFEBDA3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1AD3B-89B2-4D75-BF4E-B9A35288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EB94D-EDA5-448C-B14C-4E833D9F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B59E-474F-4C38-AE9D-5CE2D743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A6F17-E6D1-4CDA-9D2A-C035A360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FD35-6975-48F5-B325-80D9FF96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089EF-BB49-4367-AA5D-F25C0AB1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4AD2-7C4E-48DF-8C75-8194544C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5777D-5221-4BEC-BE43-CE0C5D8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C6C7-8EE1-4AC9-A1DE-B84E7090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2C2-33D0-4CD0-9974-5A1C3F2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4C196-ECD3-48B7-A325-2345F08E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0C47-067E-4320-912B-582FD802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7967F-D792-4FD3-A428-90BD28E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76E7-DB4C-4B48-A9CD-FC8E4013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16C76-CE16-4E8D-9EC9-22F0C90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E1358-A058-4140-81B7-96BAC17E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48807-638B-4FA4-A922-54B6423F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E7F7-10F1-420C-BA2B-5240846F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7D6EB-AF2D-403A-839F-54989C01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3D8B9-6229-4B9F-8C1F-044AF55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DDD-625C-4E97-904F-7B0AE44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987D9-3D3E-4E55-8045-25A41816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8C0D6-0434-40B5-8D02-AA3F19D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3C26-F2EE-4871-92BF-1640DFB2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79CF6-527C-4E00-8BC3-C52FDC5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49B7-C4F2-498D-902A-9B79A88B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86A7A-68AD-44F5-887F-E4345A06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FD54-3BAF-45FB-A425-4FFB300F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297A-4D77-47AF-A2F7-FA01519C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F318-4490-44E0-8699-4ED47BE3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EDA69-6AC1-4300-8F7D-14F5432B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FE9-4BC8-4671-938E-143C1FE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8C494-4394-4DC5-A846-2124C53C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BCA9-AC05-40D3-ABA2-E45A7DD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4278F-76C9-4263-92AE-D18708E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0A889-8114-41AF-80E5-F6FBA272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2AE0-5EAB-436A-9761-AED0CA0C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3CD3-782F-4C86-9A98-6284C686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D75BA-5DFF-4B72-A2D4-7394517C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76F54-C546-4521-8690-6DD1CFC3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B0D80-17D3-4D2D-AF72-0B5D5221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228CE-6A09-4637-8D45-3586DC29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A72B9-F21E-45CB-8791-028A89D60A83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8B869-5191-4188-A649-4397F1D40737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2FB5C-323D-4A0A-A508-461FE91E5984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6BCA3-A428-4620-83EF-CC26B0CDDCCB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036E7-B891-409B-B69C-31C2AE383BF6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43481-F2E2-43F5-B0FE-4CBE83417810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3CFBB-D7D9-4D64-8D12-C3A029B6CAC0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C1392-D4FD-4390-8AA6-1751C87D5AA5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2BFDA-281C-4573-92F0-006357B5F3D3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59CAE-3D91-4093-9525-1B2195ADA61C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FBEC3-B09C-4583-B288-200B6A1DE640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B0A2F-B284-4D8A-8D83-BB8099094B60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D00FC-F092-4037-AAB9-385BABC85661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CA32E-C45E-4089-B9B1-DBF6F3B2553E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18304-E95A-4D40-BF48-952CE2E409E0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14DEF-7166-4090-865C-4B8FC884DF96}" type="slidenum">
              <a:rPr b="0" lang="es-ES_trad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Users/jeronimoontiverosperez/Desktop/CTE%202013-2014/1.%20Encuadre%20CTE%202013-2014/CTE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301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  <a:ea typeface="Arial"/>
              </a:rPr>
              <a:t>Subcoordinación de Gestión Educativ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"/>
          <p:cNvSpPr/>
          <p:nvPr/>
        </p:nvSpPr>
        <p:spPr>
          <a:xfrm>
            <a:off x="214200" y="12319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66840" y="138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4 CuadroTexto"/>
          <p:cNvSpPr/>
          <p:nvPr/>
        </p:nvSpPr>
        <p:spPr>
          <a:xfrm>
            <a:off x="598320" y="118440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"/>
              </a:rPr>
              <a:t>Todos los participantes deberán de presentarse con los siguientes materi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4 CuadroTexto"/>
          <p:cNvSpPr/>
          <p:nvPr/>
        </p:nvSpPr>
        <p:spPr>
          <a:xfrm>
            <a:off x="844560" y="2816280"/>
            <a:ext cx="768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  <a:ea typeface="Arial"/>
              </a:rPr>
              <a:t>Plan y Programas de Estudio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  <a:ea typeface="Arial"/>
              </a:rPr>
              <a:t>Acuerdos: 648 y 6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  <a:ea typeface="Arial"/>
              </a:rPr>
              <a:t>Planeación didáctica desarrollada en el ciclo escolar 2012-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58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6 Rectángulo"/>
          <p:cNvSpPr/>
          <p:nvPr/>
        </p:nvSpPr>
        <p:spPr>
          <a:xfrm>
            <a:off x="0" y="-324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7 CuadroTexto"/>
          <p:cNvSpPr/>
          <p:nvPr/>
        </p:nvSpPr>
        <p:spPr>
          <a:xfrm>
            <a:off x="324000" y="836640"/>
            <a:ext cx="8496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alibri"/>
              </a:rPr>
              <a:t>El Consejo Técnico Escolar: una ocasión para el desarrollo profesional docente y la mejora de la escue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Ciclo escolar 2013-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62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6 Rectángulo"/>
          <p:cNvSpPr/>
          <p:nvPr/>
        </p:nvSpPr>
        <p:spPr>
          <a:xfrm>
            <a:off x="0" y="-324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7 CuadroTexto"/>
          <p:cNvSpPr/>
          <p:nvPr/>
        </p:nvSpPr>
        <p:spPr>
          <a:xfrm>
            <a:off x="324000" y="836640"/>
            <a:ext cx="8496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Arial"/>
              </a:rPr>
              <a:t>Propósit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visar de forma permanente el logro de aprendizajes de los alumnos e identificar los retos que debe superar la escuela para promover su mej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lanear, dar seguimiento y evaluar las acciones de la escuela dirigidas a mejorar el logro de aprendizaje de los alumnos, aprovechando los recursos disponibles dentro y fuera del centro esc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Fomentar el desarrollo profesional de los maestros y directivos de la escuela, en función de las prioridades educ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66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6 Rectángulo"/>
          <p:cNvSpPr/>
          <p:nvPr/>
        </p:nvSpPr>
        <p:spPr>
          <a:xfrm>
            <a:off x="0" y="-324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7 CuadroTexto"/>
          <p:cNvSpPr/>
          <p:nvPr/>
        </p:nvSpPr>
        <p:spPr>
          <a:xfrm>
            <a:off x="324000" y="1239840"/>
            <a:ext cx="8700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Arial"/>
              </a:rPr>
              <a:t>Consejo Técnico Escolar 2013-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Para la fase intensiva de los Consejos Técnicos Escolares, previa al inicio del ciclo escolar 2013–2014, la propuesta se organiza en cinco sesiones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1. ¿Por qué dar nueva vida al Consejo Técnico Esc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2. Construyendo una Cultura de Evaluación Formativa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3. Construyendo una Cultura de Evaluación Formativa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4. Mejorar nuestra escuela desde los 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  <a:ea typeface="Arial"/>
              </a:rPr>
              <a:t>Sesión 5. ¿Con qué nos compromete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C:\Users\Usuario\Pictures\USEBEQ.jpg"/>
          <p:cNvPicPr/>
          <p:nvPr/>
        </p:nvPicPr>
        <p:blipFill>
          <a:blip r:embed="rId1"/>
          <a:stretch/>
        </p:blipFill>
        <p:spPr>
          <a:xfrm>
            <a:off x="-181080" y="-243000"/>
            <a:ext cx="9763200" cy="7324920"/>
          </a:xfrm>
          <a:prstGeom prst="rect">
            <a:avLst/>
          </a:prstGeom>
          <a:ln w="0">
            <a:noFill/>
          </a:ln>
        </p:spPr>
      </p:pic>
      <p:sp>
        <p:nvSpPr>
          <p:cNvPr id="670" name="4 CuadroTexto"/>
          <p:cNvSpPr/>
          <p:nvPr/>
        </p:nvSpPr>
        <p:spPr>
          <a:xfrm>
            <a:off x="0" y="62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3 CuadroTexto"/>
          <p:cNvSpPr/>
          <p:nvPr/>
        </p:nvSpPr>
        <p:spPr>
          <a:xfrm>
            <a:off x="0" y="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36440" y="888840"/>
          <a:ext cx="9014040" cy="5186520"/>
        </p:xfrm>
        <a:graphic>
          <a:graphicData uri="http://schemas.openxmlformats.org/drawingml/2006/table">
            <a:tbl>
              <a:tblPr/>
              <a:tblGrid>
                <a:gridCol w="4006800"/>
                <a:gridCol w="50072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ni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duc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cuadre del C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ón 1:  ¿Por qué dar nueva vida al Consejo Técnico Escolar? (día 1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gistro de tareas para la organización y funcionamiento del C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stado con preguntas para atender el primer propósito del CT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ones 2 y 3: Construyendo u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ultura de Evaluación Formativa I y II. (días 2, 3 y 4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anificación Evaluativ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úbrica Analíti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ón 4: Mejorar nuestra escuela desde los cimientos. (día 5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sta de rasgos de la normalidad mínima escolar a fortalecer en su escuela en este ciclo esco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sta de temas a abordar en las sesiones de C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sión 5: ¿Con qué nos comprometemos? (día 5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uta de mejora desde y para la escuel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1 CuadroTexto"/>
          <p:cNvSpPr/>
          <p:nvPr/>
        </p:nvSpPr>
        <p:spPr>
          <a:xfrm>
            <a:off x="299880" y="1515960"/>
            <a:ext cx="855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n Consejos Técnicos Escolares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a) Comprensión del plan de estudios y conocimiento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b) Actividades de aprendizaje para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En CE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onstruyendo una cultura de evaluación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1 CuadroTexto"/>
          <p:cNvSpPr/>
          <p:nvPr/>
        </p:nvSpPr>
        <p:spPr>
          <a:xfrm>
            <a:off x="425520" y="593892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TE – Temática transversal 60%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nstruyendo la normalidad mínima esco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cesidades específicas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Rectángulo redondeado"/>
          <p:cNvSpPr/>
          <p:nvPr/>
        </p:nvSpPr>
        <p:spPr>
          <a:xfrm>
            <a:off x="125280" y="3705120"/>
            <a:ext cx="2633760" cy="17020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Agosto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Present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CEB-C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¿Por qué dar nueva vida al C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4 Proceso alternativo"/>
          <p:cNvSpPr/>
          <p:nvPr/>
        </p:nvSpPr>
        <p:spPr>
          <a:xfrm>
            <a:off x="2887560" y="3705120"/>
            <a:ext cx="2600280" cy="1702080"/>
          </a:xfrm>
          <a:prstGeom prst="flowChartAlternateProcess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Agosto 13, 14 y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Calibri"/>
                <a:ea typeface="Arial"/>
              </a:rPr>
              <a:t>Construyendo una cultura de Evaluación Formativa I 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7 Rectángulo redondeado"/>
          <p:cNvSpPr/>
          <p:nvPr/>
        </p:nvSpPr>
        <p:spPr>
          <a:xfrm>
            <a:off x="5992920" y="3807000"/>
            <a:ext cx="2892240" cy="2765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Calibri"/>
                <a:ea typeface="Arial"/>
              </a:rPr>
              <a:t>Agosto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Calibri"/>
                <a:ea typeface="Arial"/>
              </a:rPr>
              <a:t>Mejorar nuestra escuela desde los 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Calibri"/>
                <a:ea typeface="Arial"/>
              </a:rPr>
              <a:t>¿Con qué nos compromet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5 Rectángulo"/>
          <p:cNvSpPr/>
          <p:nvPr/>
        </p:nvSpPr>
        <p:spPr>
          <a:xfrm>
            <a:off x="1001880" y="2554200"/>
            <a:ext cx="3514680" cy="85104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Calibri"/>
              </a:rPr>
              <a:t>En C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9 Rectángulo"/>
          <p:cNvSpPr/>
          <p:nvPr/>
        </p:nvSpPr>
        <p:spPr>
          <a:xfrm>
            <a:off x="6281640" y="2617920"/>
            <a:ext cx="2316240" cy="85068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Calibri"/>
              </a:rPr>
              <a:t>En Centro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6 Rectángulo redondeado"/>
          <p:cNvSpPr/>
          <p:nvPr/>
        </p:nvSpPr>
        <p:spPr>
          <a:xfrm>
            <a:off x="1863720" y="1339920"/>
            <a:ext cx="5575320" cy="6001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n agosto de 2013, del 12 al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11 Conector recto"/>
          <p:cNvSpPr/>
          <p:nvPr/>
        </p:nvSpPr>
        <p:spPr>
          <a:xfrm>
            <a:off x="5627520" y="2397240"/>
            <a:ext cx="79560" cy="3341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4"/>
          <p:cNvSpPr/>
          <p:nvPr/>
        </p:nvSpPr>
        <p:spPr>
          <a:xfrm>
            <a:off x="214200" y="12319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66840" y="138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4 CuadroTexto"/>
          <p:cNvSpPr/>
          <p:nvPr/>
        </p:nvSpPr>
        <p:spPr>
          <a:xfrm>
            <a:off x="876240" y="123192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Segu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2 CuadroTexto"/>
          <p:cNvSpPr/>
          <p:nvPr/>
        </p:nvSpPr>
        <p:spPr>
          <a:xfrm>
            <a:off x="876240" y="2336760"/>
            <a:ext cx="7624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  <a:ea typeface="Arial"/>
              </a:rPr>
              <a:t>4 reuniones  de Consejo Técnico Esco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n su turno y centro de trabajo resp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  <a:ea typeface="Arial"/>
              </a:rPr>
              <a:t>4 reuniones de CEB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  <a:ea typeface="Arial"/>
              </a:rPr>
              <a:t>–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  <a:ea typeface="Arial"/>
              </a:rPr>
              <a:t>C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982800" y="3875040"/>
          <a:ext cx="7704000" cy="1886040"/>
        </p:xfrm>
        <a:graphic>
          <a:graphicData uri="http://schemas.openxmlformats.org/drawingml/2006/table">
            <a:tbl>
              <a:tblPr/>
              <a:tblGrid>
                <a:gridCol w="2457360"/>
                <a:gridCol w="2685960"/>
                <a:gridCol w="256068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r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odalida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ordin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:00  – 13:00 hr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tegrados en C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sesor Académi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:00 – 15:00 hr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r escue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Consejo Técnic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rector/Supervis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18 CuadroTexto"/>
          <p:cNvSpPr/>
          <p:nvPr/>
        </p:nvSpPr>
        <p:spPr>
          <a:xfrm>
            <a:off x="630360" y="89064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Seguimiento del CEB–CTE </a:t>
            </a:r>
            <a:r>
              <a:rPr b="1" lang="es-MX" sz="2000" spc="-1" strike="noStrike">
                <a:solidFill>
                  <a:srgbClr val="800000"/>
                </a:solidFill>
                <a:latin typeface="Arial"/>
              </a:rPr>
              <a:t>(8 ses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1 CuadroTexto"/>
          <p:cNvSpPr/>
          <p:nvPr/>
        </p:nvSpPr>
        <p:spPr>
          <a:xfrm>
            <a:off x="344520" y="1414440"/>
            <a:ext cx="86803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 sesiones por Consejo Técnico Escolar (CT/nivel-moda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Coordinados por el director de la escuela y/o supervi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7 de sept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9 de 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8 de feb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30 de may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 sesiones en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EB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003300"/>
                </a:solidFill>
                <a:latin typeface="Arial"/>
              </a:rPr>
              <a:t>Coordinadas por el Asesor o 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5 de 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31 de en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8 de mar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27 de jun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Microreg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10:32Z</dcterms:created>
  <dc:creator>Arlen</dc:creator>
  <dc:description/>
  <dc:language>en-US</dc:language>
  <cp:lastModifiedBy>Laptop001</cp:lastModifiedBy>
  <cp:lastPrinted>2013-06-06T13:03:48Z</cp:lastPrinted>
  <dcterms:modified xsi:type="dcterms:W3CDTF">2013-06-19T17:37:05Z</dcterms:modified>
  <cp:revision>400</cp:revision>
  <dc:subject/>
  <dc:title>Texto</dc:title>
</cp:coreProperties>
</file>